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3CC5-5D37-4548-83C3-A7F3492EA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77D1-3093-4098-A7A1-DC82B1A9A5FE}" type="slidenum">
              <a:rPr b="0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E0A5-A9DA-4904-9050-AF011076080E}" type="slidenum">
              <a:rPr b="0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1757-8540-4419-925B-5666F1AFF3A4}" type="slidenum">
              <a:rPr b="0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9C64-CB53-42AB-AFCB-9D2F6B03F614}" type="slidenum">
              <a:rPr b="0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F009-9701-486A-AEE0-67EF025DCE52}" type="slidenum">
              <a:rPr b="0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F44D-4295-4D49-B0F7-5230D4F04641}" type="slidenum">
              <a:rPr b="0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7FE8-8626-4D83-ACDF-C4135F477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7C05-1300-4599-AD49-23D7AF7B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63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79D1-7F53-4A40-B535-65F62C1DF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3864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1516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3864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1516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9D8C-F806-4F20-BAEE-F762205CC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D3C4-4D4E-44D8-A6FD-542B93EA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13CD-1843-4082-9AB0-F9846903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F400-1FE3-4D59-AE21-034EBBE3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27B1-B381-4489-878B-09279971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3547-B66F-435A-8A47-C636FED9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B1CD-9241-48B8-9146-3C27753A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63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C440-4C74-463D-911A-9E56673C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0075-6442-49EC-A7E7-EA126776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2"/>
          <p:cNvGrpSpPr/>
          <p:nvPr/>
        </p:nvGrpSpPr>
        <p:grpSpPr>
          <a:xfrm>
            <a:off x="76320" y="1066680"/>
            <a:ext cx="8991360" cy="5562720"/>
            <a:chOff x="76320" y="1066680"/>
            <a:chExt cx="8991360" cy="5562720"/>
          </a:xfrm>
        </p:grpSpPr>
        <p:grpSp>
          <p:nvGrpSpPr>
            <p:cNvPr id="1" name="Group 111"/>
            <p:cNvGrpSpPr/>
            <p:nvPr/>
          </p:nvGrpSpPr>
          <p:grpSpPr>
            <a:xfrm>
              <a:off x="152280" y="1218960"/>
              <a:ext cx="8839440" cy="5258160"/>
              <a:chOff x="152280" y="1218960"/>
              <a:chExt cx="8839440" cy="5258160"/>
            </a:xfrm>
          </p:grpSpPr>
          <p:sp>
            <p:nvSpPr>
              <p:cNvPr id="2" name="AutoShape 56"/>
              <p:cNvSpPr/>
              <p:nvPr/>
            </p:nvSpPr>
            <p:spPr>
              <a:xfrm>
                <a:off x="304920" y="1371600"/>
                <a:ext cx="8534160" cy="4952880"/>
              </a:xfrm>
              <a:custGeom>
                <a:avLst/>
                <a:gdLst>
                  <a:gd name="textAreaLeft" fmla="*/ 267480 w 8534160"/>
                  <a:gd name="textAreaRight" fmla="*/ 8266680 w 8534160"/>
                  <a:gd name="textAreaTop" fmla="*/ 267480 h 4952880"/>
                  <a:gd name="textAreaBottom" fmla="*/ 4685400 h 4952880"/>
                </a:gdLst>
                <a:ahLst/>
                <a:rect l="textAreaLeft" t="textAreaTop" r="textAreaRight" b="textAreaBottom"/>
                <a:pathLst>
                  <a:path w="37217" h="21600">
                    <a:moveTo>
                      <a:pt x="1650" y="0"/>
                    </a:moveTo>
                    <a:arcTo wR="1650" hR="1650" stAng="0" swAng="5400000"/>
                    <a:lnTo>
                      <a:pt x="0" y="19950"/>
                    </a:lnTo>
                    <a:arcTo wR="1650" hR="1650" stAng="16200000" swAng="5400000"/>
                    <a:lnTo>
                      <a:pt x="35567" y="21600"/>
                    </a:lnTo>
                    <a:arcTo wR="1650" hR="1650" stAng="10800000" swAng="5400000"/>
                    <a:lnTo>
                      <a:pt x="37217" y="1650"/>
                    </a:lnTo>
                    <a:arcTo wR="1650" hR="1650" stAng="5400000" swAng="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3" name="AutoShape 70"/>
              <p:cNvSpPr/>
              <p:nvPr/>
            </p:nvSpPr>
            <p:spPr>
              <a:xfrm rot="5400000">
                <a:off x="-1866960" y="3771720"/>
                <a:ext cx="4191120" cy="152640"/>
              </a:xfrm>
              <a:custGeom>
                <a:avLst/>
                <a:gdLst>
                  <a:gd name="textAreaLeft" fmla="*/ 1162080 w 4191120"/>
                  <a:gd name="textAreaRight" fmla="*/ 3029040 w 4191120"/>
                  <a:gd name="textAreaTop" fmla="*/ 42840 h 152640"/>
                  <a:gd name="textAreaBottom" fmla="*/ 10980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8377" y="21600"/>
                    </a:lnTo>
                    <a:lnTo>
                      <a:pt x="13223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" name="AutoShape 71"/>
              <p:cNvSpPr/>
              <p:nvPr/>
            </p:nvSpPr>
            <p:spPr>
              <a:xfrm rot="10800000">
                <a:off x="762120" y="1218600"/>
                <a:ext cx="7619760" cy="152280"/>
              </a:xfrm>
              <a:custGeom>
                <a:avLst/>
                <a:gdLst>
                  <a:gd name="textAreaLeft" fmla="*/ 2112840 w 7619760"/>
                  <a:gd name="textAreaRight" fmla="*/ 5507280 w 7619760"/>
                  <a:gd name="textAreaTop" fmla="*/ 42840 h 152280"/>
                  <a:gd name="textAreaBottom" fmla="*/ 109440 h 15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8377" y="21600"/>
                    </a:lnTo>
                    <a:lnTo>
                      <a:pt x="13223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5" name="AutoShape 72"/>
              <p:cNvSpPr/>
              <p:nvPr/>
            </p:nvSpPr>
            <p:spPr>
              <a:xfrm>
                <a:off x="838080" y="6324480"/>
                <a:ext cx="7620120" cy="152640"/>
              </a:xfrm>
              <a:custGeom>
                <a:avLst/>
                <a:gdLst>
                  <a:gd name="textAreaLeft" fmla="*/ 2113200 w 7620120"/>
                  <a:gd name="textAreaRight" fmla="*/ 5507280 w 7620120"/>
                  <a:gd name="textAreaTop" fmla="*/ 42840 h 152640"/>
                  <a:gd name="textAreaBottom" fmla="*/ 10980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8377" y="21600"/>
                    </a:lnTo>
                    <a:lnTo>
                      <a:pt x="13223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" name="AutoShape 74"/>
              <p:cNvSpPr/>
              <p:nvPr/>
            </p:nvSpPr>
            <p:spPr>
              <a:xfrm rot="16200000">
                <a:off x="6858000" y="3733560"/>
                <a:ext cx="4114800" cy="152640"/>
              </a:xfrm>
              <a:custGeom>
                <a:avLst/>
                <a:gdLst>
                  <a:gd name="textAreaLeft" fmla="*/ 1141560 w 4114800"/>
                  <a:gd name="textAreaRight" fmla="*/ 2973240 w 4114800"/>
                  <a:gd name="textAreaTop" fmla="*/ 42840 h 152640"/>
                  <a:gd name="textAreaBottom" fmla="*/ 10980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8377" y="21600"/>
                    </a:lnTo>
                    <a:lnTo>
                      <a:pt x="13223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7" name="Group 103"/>
            <p:cNvGrpSpPr/>
            <p:nvPr/>
          </p:nvGrpSpPr>
          <p:grpSpPr>
            <a:xfrm>
              <a:off x="76320" y="1066680"/>
              <a:ext cx="761760" cy="762120"/>
              <a:chOff x="76320" y="1066680"/>
              <a:chExt cx="761760" cy="762120"/>
            </a:xfrm>
          </p:grpSpPr>
          <p:sp>
            <p:nvSpPr>
              <p:cNvPr id="8" name="Oval 57"/>
              <p:cNvSpPr/>
              <p:nvPr/>
            </p:nvSpPr>
            <p:spPr>
              <a:xfrm>
                <a:off x="76320" y="10666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c0000"/>
                  </a:gs>
                </a:gsLst>
                <a:lin ang="27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9" name="Oval 79"/>
              <p:cNvSpPr/>
              <p:nvPr/>
            </p:nvSpPr>
            <p:spPr>
              <a:xfrm>
                <a:off x="152280" y="1143000"/>
                <a:ext cx="446040" cy="47952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71040" dir="2520846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104"/>
            <p:cNvGrpSpPr/>
            <p:nvPr/>
          </p:nvGrpSpPr>
          <p:grpSpPr>
            <a:xfrm>
              <a:off x="8305920" y="1066680"/>
              <a:ext cx="761760" cy="762120"/>
              <a:chOff x="8305920" y="1066680"/>
              <a:chExt cx="761760" cy="762120"/>
            </a:xfrm>
          </p:grpSpPr>
          <p:sp>
            <p:nvSpPr>
              <p:cNvPr id="11" name="Oval 80"/>
              <p:cNvSpPr/>
              <p:nvPr/>
            </p:nvSpPr>
            <p:spPr>
              <a:xfrm>
                <a:off x="8305920" y="10666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fc0000"/>
                  </a:gs>
                  <a:gs pos="100000">
                    <a:srgbClr val="000000"/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81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" name="Oval 81"/>
              <p:cNvSpPr/>
              <p:nvPr/>
            </p:nvSpPr>
            <p:spPr>
              <a:xfrm>
                <a:off x="8545680" y="1143000"/>
                <a:ext cx="446040" cy="47952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15171" dir="577685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13" name="Group 105"/>
            <p:cNvGrpSpPr/>
            <p:nvPr/>
          </p:nvGrpSpPr>
          <p:grpSpPr>
            <a:xfrm>
              <a:off x="76320" y="5867280"/>
              <a:ext cx="761760" cy="762120"/>
              <a:chOff x="76320" y="5867280"/>
              <a:chExt cx="761760" cy="762120"/>
            </a:xfrm>
          </p:grpSpPr>
          <p:sp>
            <p:nvSpPr>
              <p:cNvPr id="14" name="Oval 82"/>
              <p:cNvSpPr/>
              <p:nvPr/>
            </p:nvSpPr>
            <p:spPr>
              <a:xfrm>
                <a:off x="76320" y="58672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c0000"/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" name="Oval 83"/>
              <p:cNvSpPr/>
              <p:nvPr/>
            </p:nvSpPr>
            <p:spPr>
              <a:xfrm>
                <a:off x="152280" y="6073920"/>
                <a:ext cx="446040" cy="47916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27703" dir="3397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16" name="Group 106"/>
            <p:cNvGrpSpPr/>
            <p:nvPr/>
          </p:nvGrpSpPr>
          <p:grpSpPr>
            <a:xfrm>
              <a:off x="8305920" y="5867280"/>
              <a:ext cx="761760" cy="762120"/>
              <a:chOff x="8305920" y="5867280"/>
              <a:chExt cx="761760" cy="762120"/>
            </a:xfrm>
          </p:grpSpPr>
          <p:sp>
            <p:nvSpPr>
              <p:cNvPr id="17" name="Oval 84"/>
              <p:cNvSpPr/>
              <p:nvPr/>
            </p:nvSpPr>
            <p:spPr>
              <a:xfrm>
                <a:off x="8305920" y="58672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fc0000"/>
                  </a:gs>
                  <a:gs pos="100000">
                    <a:srgbClr val="000000"/>
                  </a:gs>
                </a:gsLst>
                <a:lin ang="27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8" name="Oval 85"/>
              <p:cNvSpPr/>
              <p:nvPr/>
            </p:nvSpPr>
            <p:spPr>
              <a:xfrm>
                <a:off x="8534520" y="6073920"/>
                <a:ext cx="446040" cy="47916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7819" dir="81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914400" y="6477120"/>
            <a:ext cx="1371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2362320" y="6459120"/>
            <a:ext cx="411480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457680"/>
            <a:ext cx="16765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70D6-FBE7-4521-9CD4-DEE6115FB335}" type="slidenum">
              <a:rPr b="0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WELCOME TO AMERICAN STUDIES!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Grading Periods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Quarters 1 and 3 – Progress grad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Quarters 2 and 4 – Grades of Record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On transcrip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unt”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ligibility / Interventions – Pulled 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hursday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What Do We Do?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 lot of readi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ovel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hort storie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oetr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on-fiction ite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 lot of writi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Essay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aragraph response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ote takin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What Else?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blic Speak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rt and long speech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romptu and prepa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olog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ll u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ll produ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Life Lessons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rming an opinion on an issu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sing evidence to defend said posit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aking risk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Self-Advocacy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61976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 take responsibility for choic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 practice time managemen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 experience challeng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 speak for themselv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How You Can Keep Up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ccess Infinite Campus 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Grade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Message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heck the class wiki – 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ourse Schedul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sk your studen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Picture 2.png"/>
          <p:cNvPicPr/>
          <p:nvPr/>
        </p:nvPicPr>
        <p:blipFill>
          <a:blip r:embed="rId1"/>
          <a:stretch/>
        </p:blipFill>
        <p:spPr>
          <a:xfrm>
            <a:off x="3276720" y="228600"/>
            <a:ext cx="4741920" cy="6454800"/>
          </a:xfrm>
          <a:prstGeom prst="rect">
            <a:avLst/>
          </a:prstGeom>
          <a:ln w="9360">
            <a:solidFill>
              <a:srgbClr val="002a82"/>
            </a:solidFill>
            <a:miter/>
          </a:ln>
        </p:spPr>
      </p:pic>
      <p:sp>
        <p:nvSpPr>
          <p:cNvPr id="112" name="TextBox 4"/>
          <p:cNvSpPr/>
          <p:nvPr/>
        </p:nvSpPr>
        <p:spPr>
          <a:xfrm>
            <a:off x="990720" y="609480"/>
            <a:ext cx="1981080" cy="368280"/>
          </a:xfrm>
          <a:prstGeom prst="rect">
            <a:avLst/>
          </a:prstGeom>
          <a:noFill/>
          <a:ln w="9360">
            <a:solidFill>
              <a:srgbClr val="000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Date of Clas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990720" y="1371600"/>
            <a:ext cx="1981080" cy="368280"/>
          </a:xfrm>
          <a:prstGeom prst="rect">
            <a:avLst/>
          </a:prstGeom>
          <a:noFill/>
          <a:ln w="9360">
            <a:solidFill>
              <a:srgbClr val="000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Reminder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990720" y="2438280"/>
            <a:ext cx="1981080" cy="642600"/>
          </a:xfrm>
          <a:prstGeom prst="rect">
            <a:avLst/>
          </a:prstGeom>
          <a:noFill/>
          <a:ln w="9360">
            <a:solidFill>
              <a:srgbClr val="000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Handouts from Day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990720" y="4114800"/>
            <a:ext cx="1981080" cy="368280"/>
          </a:xfrm>
          <a:prstGeom prst="rect">
            <a:avLst/>
          </a:prstGeom>
          <a:noFill/>
          <a:ln w="9360">
            <a:solidFill>
              <a:srgbClr val="000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Assigned Work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990720" y="5410080"/>
            <a:ext cx="1981080" cy="368280"/>
          </a:xfrm>
          <a:prstGeom prst="rect">
            <a:avLst/>
          </a:prstGeom>
          <a:noFill/>
          <a:ln w="9360">
            <a:solidFill>
              <a:srgbClr val="000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Lecture Material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cxnSp>
        <p:nvCxnSpPr>
          <p:cNvPr id="117" name="Straight Arrow Connector 10"/>
          <p:cNvCxnSpPr/>
          <p:nvPr/>
        </p:nvCxnSpPr>
        <p:spPr>
          <a:xfrm flipV="1">
            <a:off x="2666520" y="380520"/>
            <a:ext cx="686520" cy="457920"/>
          </a:xfrm>
          <a:prstGeom prst="straightConnector1">
            <a:avLst/>
          </a:prstGeom>
          <a:ln w="25560">
            <a:solidFill>
              <a:srgbClr val="fc0000"/>
            </a:solidFill>
            <a:miter/>
            <a:tailEnd len="med" type="arrow" w="med"/>
          </a:ln>
        </p:spPr>
      </p:cxnSp>
      <p:cxnSp>
        <p:nvCxnSpPr>
          <p:cNvPr id="118" name="Straight Arrow Connector 12"/>
          <p:cNvCxnSpPr/>
          <p:nvPr/>
        </p:nvCxnSpPr>
        <p:spPr>
          <a:xfrm flipV="1">
            <a:off x="2743200" y="913680"/>
            <a:ext cx="991440" cy="686520"/>
          </a:xfrm>
          <a:prstGeom prst="straightConnector1">
            <a:avLst/>
          </a:prstGeom>
          <a:ln w="25560">
            <a:solidFill>
              <a:srgbClr val="fc0000"/>
            </a:solidFill>
            <a:miter/>
            <a:tailEnd len="med" type="arrow" w="med"/>
          </a:ln>
        </p:spPr>
      </p:cxnSp>
      <p:cxnSp>
        <p:nvCxnSpPr>
          <p:cNvPr id="119" name="Straight Arrow Connector 14"/>
          <p:cNvCxnSpPr/>
          <p:nvPr/>
        </p:nvCxnSpPr>
        <p:spPr>
          <a:xfrm>
            <a:off x="2743200" y="1600200"/>
            <a:ext cx="991440" cy="457920"/>
          </a:xfrm>
          <a:prstGeom prst="straightConnector1">
            <a:avLst/>
          </a:prstGeom>
          <a:ln w="25560">
            <a:solidFill>
              <a:srgbClr val="fc0000"/>
            </a:solidFill>
            <a:miter/>
            <a:tailEnd len="med" type="arrow" w="med"/>
          </a:ln>
        </p:spPr>
      </p:cxnSp>
      <p:cxnSp>
        <p:nvCxnSpPr>
          <p:cNvPr id="120" name="Straight Arrow Connector 16"/>
          <p:cNvCxnSpPr/>
          <p:nvPr/>
        </p:nvCxnSpPr>
        <p:spPr>
          <a:xfrm>
            <a:off x="2742840" y="2819520"/>
            <a:ext cx="1220040" cy="2160"/>
          </a:xfrm>
          <a:prstGeom prst="straightConnector1">
            <a:avLst/>
          </a:prstGeom>
          <a:ln w="25560">
            <a:solidFill>
              <a:srgbClr val="fc0000"/>
            </a:solidFill>
            <a:miter/>
            <a:tailEnd len="med" type="arrow" w="med"/>
          </a:ln>
        </p:spPr>
      </p:cxnSp>
      <p:cxnSp>
        <p:nvCxnSpPr>
          <p:cNvPr id="121" name="Straight Arrow Connector 18"/>
          <p:cNvCxnSpPr/>
          <p:nvPr/>
        </p:nvCxnSpPr>
        <p:spPr>
          <a:xfrm>
            <a:off x="2742120" y="2819520"/>
            <a:ext cx="1143720" cy="1372320"/>
          </a:xfrm>
          <a:prstGeom prst="straightConnector1">
            <a:avLst/>
          </a:prstGeom>
          <a:ln w="25560">
            <a:solidFill>
              <a:srgbClr val="fc0000"/>
            </a:solidFill>
            <a:miter/>
            <a:tailEnd len="med" type="arrow" w="med"/>
          </a:ln>
        </p:spPr>
      </p:cxnSp>
      <p:cxnSp>
        <p:nvCxnSpPr>
          <p:cNvPr id="122" name="Straight Arrow Connector 20"/>
          <p:cNvCxnSpPr/>
          <p:nvPr/>
        </p:nvCxnSpPr>
        <p:spPr>
          <a:xfrm>
            <a:off x="2819160" y="4343400"/>
            <a:ext cx="991080" cy="915120"/>
          </a:xfrm>
          <a:prstGeom prst="straightConnector1">
            <a:avLst/>
          </a:prstGeom>
          <a:ln w="25560">
            <a:solidFill>
              <a:srgbClr val="fc0000"/>
            </a:solidFill>
            <a:miter/>
            <a:tailEnd len="med" type="arrow" w="med"/>
          </a:ln>
        </p:spPr>
      </p:cxnSp>
      <p:cxnSp>
        <p:nvCxnSpPr>
          <p:cNvPr id="123" name="Straight Arrow Connector 22"/>
          <p:cNvCxnSpPr/>
          <p:nvPr/>
        </p:nvCxnSpPr>
        <p:spPr>
          <a:xfrm>
            <a:off x="2819160" y="5562360"/>
            <a:ext cx="991080" cy="686520"/>
          </a:xfrm>
          <a:prstGeom prst="straightConnector1">
            <a:avLst/>
          </a:prstGeom>
          <a:ln w="25560">
            <a:solidFill>
              <a:srgbClr val="fc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Observations Over 15 Years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tudents struggle with work load and expectations at first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tudents DO figure it out. Give them time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nd their currency (video games, sports, phones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Many students can be believed.  Some cannot. We are competent individuals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Grading papers takes time…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100 students at 15 minutes each = 25 hour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lanning time we receive each week = 6 hour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ncludes planning, prep, hall duty!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Communication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mail is bes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hone is less good (never at desks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ntact anytim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ill push for student involvement in proces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Who are These Guys?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harles Vavra – History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hris Warner – English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Academic Transition Night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ll parents invited!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f0505"/>
                </a:solidFill>
                <a:latin typeface="Arial"/>
              </a:rPr>
              <a:t>Legacy High School Auditorium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f0505"/>
                </a:solidFill>
                <a:latin typeface="Arial"/>
              </a:rPr>
              <a:t>September 8 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f0505"/>
                </a:solidFill>
                <a:latin typeface="Arial"/>
              </a:rPr>
              <a:t>6 – 8 pm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Thank You!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harles Vavra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hris Warner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About the Class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ots of discuss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Historical / contemporary topic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ntroversial topic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What defines controversial?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Every unit probably has </a:t>
            </a:r>
            <a:r>
              <a:rPr b="0" i="1" lang="en-US" sz="2800" spc="-1" strike="noStrike">
                <a:solidFill>
                  <a:srgbClr val="003399"/>
                </a:solidFill>
                <a:latin typeface="Arial"/>
              </a:rPr>
              <a:t>somethin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Supplies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ap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encils / pen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rganizational syste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lash drive!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1 GB or bigger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mputer / internet acces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6705720" y="4114800"/>
            <a:ext cx="16430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Texts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399"/>
                </a:solidFill>
                <a:latin typeface="Arial"/>
              </a:rPr>
              <a:t>The Americans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399"/>
                </a:solidFill>
                <a:latin typeface="Arial"/>
              </a:rPr>
              <a:t>To Kill a Mockingbird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399"/>
                </a:solidFill>
                <a:latin typeface="Arial"/>
              </a:rPr>
              <a:t>Of Mice and Men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399"/>
                </a:solidFill>
                <a:latin typeface="Arial"/>
              </a:rPr>
              <a:t>Ragtime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399"/>
                </a:solidFill>
                <a:latin typeface="Arial"/>
              </a:rPr>
              <a:t>Johnny Got His Gun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399"/>
                </a:solidFill>
                <a:latin typeface="Arial"/>
              </a:rPr>
              <a:t>If I Die in a Combat Zone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Grading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79" name="Chart 5" descr=""/>
          <p:cNvPicPr/>
          <p:nvPr/>
        </p:nvPicPr>
        <p:blipFill>
          <a:blip r:embed="rId1"/>
          <a:stretch/>
        </p:blipFill>
        <p:spPr>
          <a:xfrm>
            <a:off x="907920" y="1517760"/>
            <a:ext cx="7480440" cy="4584600"/>
          </a:xfrm>
          <a:prstGeom prst="rect">
            <a:avLst/>
          </a:prstGeom>
          <a:ln w="0">
            <a:noFill/>
          </a:ln>
        </p:spPr>
      </p:pic>
      <p:sp>
        <p:nvSpPr>
          <p:cNvPr id="80" name="TextBox 6"/>
          <p:cNvSpPr/>
          <p:nvPr/>
        </p:nvSpPr>
        <p:spPr>
          <a:xfrm>
            <a:off x="2514600" y="28195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35%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>
            <a:off x="3733920" y="43434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35%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Grading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99"/>
                </a:solidFill>
                <a:latin typeface="Arial"/>
              </a:rPr>
              <a:t>35% - Assessment </a:t>
            </a:r>
            <a:endParaRPr b="0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Big dea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Big point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99"/>
                </a:solidFill>
                <a:latin typeface="Arial"/>
              </a:rPr>
              <a:t>35% - Shared (History and English)</a:t>
            </a:r>
            <a:endParaRPr b="0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Big dea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Big point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99"/>
                </a:solidFill>
                <a:latin typeface="Arial"/>
              </a:rPr>
              <a:t>30% - Formative (homework, etc.)</a:t>
            </a:r>
            <a:endParaRPr b="0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ractic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mall point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Projects and Assignments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Curved Down Arrow 5"/>
          <p:cNvSpPr/>
          <p:nvPr/>
        </p:nvSpPr>
        <p:spPr>
          <a:xfrm>
            <a:off x="685800" y="2209680"/>
            <a:ext cx="8077320" cy="2819520"/>
          </a:xfrm>
          <a:custGeom>
            <a:avLst/>
            <a:gdLst>
              <a:gd name="textAreaLeft" fmla="*/ 1862280 w 8077320"/>
              <a:gd name="textAreaRight" fmla="*/ 5927760 w 8077320"/>
              <a:gd name="textAreaTop" fmla="*/ 377640 h 2819520"/>
              <a:gd name="textAreaBottom" fmla="*/ 24418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62" hR="21600" stAng="10800000" swAng="5400000"/>
                <a:lnTo>
                  <a:pt x="10871" y="0"/>
                </a:lnTo>
                <a:arcTo wR="9962" hR="21600" stAng="-5400000" swAng="3645424"/>
                <a:lnTo>
                  <a:pt x="21284" y="16200"/>
                </a:lnTo>
                <a:lnTo>
                  <a:pt x="20378" y="21600"/>
                </a:lnTo>
                <a:lnTo>
                  <a:pt x="18839" y="16200"/>
                </a:lnTo>
                <a:lnTo>
                  <a:pt x="19607" y="16200"/>
                </a:lnTo>
                <a:arcTo wR="9962" hR="21600" stAng="-1754576" swAng="-3573023"/>
                <a:lnTo>
                  <a:pt x="10416" y="22"/>
                </a:lnTo>
                <a:arcTo wR="9962" hR="21600" stAng="-5472401" swAng="-5327599"/>
                <a:close/>
              </a:path>
              <a:path fill="darkenLess" w="21600" h="21600">
                <a:moveTo>
                  <a:pt x="0" y="21600"/>
                </a:moveTo>
                <a:arcTo wR="9962" hR="21600" stAng="10800000" swAng="5400000"/>
                <a:lnTo>
                  <a:pt x="9962" y="0"/>
                </a:lnTo>
                <a:arcTo wR="9962" hR="21600" stAng="-5400000" swAng="72401"/>
                <a:lnTo>
                  <a:pt x="10416" y="22"/>
                </a:lnTo>
                <a:arcTo wR="9962" hR="21600" stAng="-5472401" swAng="-5327599"/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d70000"/>
              </a:gs>
            </a:gsLst>
            <a:lin ang="5400000"/>
          </a:gradFill>
          <a:ln w="9360">
            <a:solidFill>
              <a:srgbClr val="fd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Curved Down Arrow 6"/>
          <p:cNvSpPr/>
          <p:nvPr/>
        </p:nvSpPr>
        <p:spPr>
          <a:xfrm>
            <a:off x="1295280" y="4114800"/>
            <a:ext cx="2057400" cy="990720"/>
          </a:xfrm>
          <a:custGeom>
            <a:avLst/>
            <a:gdLst>
              <a:gd name="textAreaLeft" fmla="*/ 421200 w 2057400"/>
              <a:gd name="textAreaRight" fmla="*/ 1512000 w 2057400"/>
              <a:gd name="textAreaTop" fmla="*/ 132480 h 990720"/>
              <a:gd name="textAreaBottom" fmla="*/ 8582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850" hR="21600" stAng="10800000" swAng="5400000"/>
                <a:lnTo>
                  <a:pt x="11450" y="0"/>
                </a:lnTo>
                <a:arcTo wR="8850" hR="21600" stAng="-5400000" swAng="3466901"/>
                <a:lnTo>
                  <a:pt x="21319" y="16200"/>
                </a:lnTo>
                <a:lnTo>
                  <a:pt x="19000" y="21600"/>
                </a:lnTo>
                <a:lnTo>
                  <a:pt x="16119" y="16200"/>
                </a:lnTo>
                <a:lnTo>
                  <a:pt x="17419" y="16200"/>
                </a:lnTo>
                <a:arcTo wR="8850" hR="21600" stAng="-1933099" swAng="-3257988"/>
                <a:lnTo>
                  <a:pt x="10150" y="234"/>
                </a:lnTo>
                <a:arcTo wR="8850" hR="21600" stAng="-5608913" swAng="-5191087"/>
                <a:close/>
              </a:path>
              <a:path fill="darkenLess" w="21600" h="21600">
                <a:moveTo>
                  <a:pt x="0" y="21600"/>
                </a:moveTo>
                <a:arcTo wR="8850" hR="21600" stAng="10800000" swAng="5400000"/>
                <a:lnTo>
                  <a:pt x="8850" y="0"/>
                </a:lnTo>
                <a:arcTo wR="8850" hR="21600" stAng="-5400000" swAng="208913"/>
                <a:lnTo>
                  <a:pt x="10150" y="234"/>
                </a:lnTo>
                <a:arcTo wR="8850" hR="21600" stAng="-5608913" swAng="-5191087"/>
                <a:close/>
              </a:path>
            </a:pathLst>
          </a:custGeom>
          <a:solidFill>
            <a:srgbClr val="ff8000"/>
          </a:solidFill>
          <a:ln w="9360">
            <a:solidFill>
              <a:srgbClr val="ff8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Curved Down Arrow 7"/>
          <p:cNvSpPr/>
          <p:nvPr/>
        </p:nvSpPr>
        <p:spPr>
          <a:xfrm>
            <a:off x="5943600" y="4114800"/>
            <a:ext cx="2057400" cy="990720"/>
          </a:xfrm>
          <a:custGeom>
            <a:avLst/>
            <a:gdLst>
              <a:gd name="textAreaLeft" fmla="*/ 421200 w 2057400"/>
              <a:gd name="textAreaRight" fmla="*/ 1512000 w 2057400"/>
              <a:gd name="textAreaTop" fmla="*/ 132480 h 990720"/>
              <a:gd name="textAreaBottom" fmla="*/ 8582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850" hR="21600" stAng="10800000" swAng="5400000"/>
                <a:lnTo>
                  <a:pt x="11450" y="0"/>
                </a:lnTo>
                <a:arcTo wR="8850" hR="21600" stAng="-5400000" swAng="3466901"/>
                <a:lnTo>
                  <a:pt x="21319" y="16200"/>
                </a:lnTo>
                <a:lnTo>
                  <a:pt x="19000" y="21600"/>
                </a:lnTo>
                <a:lnTo>
                  <a:pt x="16119" y="16200"/>
                </a:lnTo>
                <a:lnTo>
                  <a:pt x="17419" y="16200"/>
                </a:lnTo>
                <a:arcTo wR="8850" hR="21600" stAng="-1933099" swAng="-3257988"/>
                <a:lnTo>
                  <a:pt x="10150" y="234"/>
                </a:lnTo>
                <a:arcTo wR="8850" hR="21600" stAng="-5608913" swAng="-5191087"/>
                <a:close/>
              </a:path>
              <a:path fill="darkenLess" w="21600" h="21600">
                <a:moveTo>
                  <a:pt x="0" y="21600"/>
                </a:moveTo>
                <a:arcTo wR="8850" hR="21600" stAng="10800000" swAng="5400000"/>
                <a:lnTo>
                  <a:pt x="8850" y="0"/>
                </a:lnTo>
                <a:arcTo wR="8850" hR="21600" stAng="-5400000" swAng="208913"/>
                <a:lnTo>
                  <a:pt x="10150" y="234"/>
                </a:lnTo>
                <a:arcTo wR="8850" hR="21600" stAng="-5608913" swAng="-5191087"/>
                <a:close/>
              </a:path>
            </a:pathLst>
          </a:custGeom>
          <a:solidFill>
            <a:srgbClr val="003399"/>
          </a:solidFill>
          <a:ln w="9360">
            <a:solidFill>
              <a:srgbClr val="00339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Curved Down Arrow 8"/>
          <p:cNvSpPr/>
          <p:nvPr/>
        </p:nvSpPr>
        <p:spPr>
          <a:xfrm>
            <a:off x="3809880" y="4114800"/>
            <a:ext cx="2057400" cy="990720"/>
          </a:xfrm>
          <a:custGeom>
            <a:avLst/>
            <a:gdLst>
              <a:gd name="textAreaLeft" fmla="*/ 421200 w 2057400"/>
              <a:gd name="textAreaRight" fmla="*/ 1512000 w 2057400"/>
              <a:gd name="textAreaTop" fmla="*/ 132480 h 990720"/>
              <a:gd name="textAreaBottom" fmla="*/ 8582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850" hR="21600" stAng="10800000" swAng="5400000"/>
                <a:lnTo>
                  <a:pt x="11450" y="0"/>
                </a:lnTo>
                <a:arcTo wR="8850" hR="21600" stAng="-5400000" swAng="3466901"/>
                <a:lnTo>
                  <a:pt x="21319" y="16200"/>
                </a:lnTo>
                <a:lnTo>
                  <a:pt x="19000" y="21600"/>
                </a:lnTo>
                <a:lnTo>
                  <a:pt x="16119" y="16200"/>
                </a:lnTo>
                <a:lnTo>
                  <a:pt x="17419" y="16200"/>
                </a:lnTo>
                <a:arcTo wR="8850" hR="21600" stAng="-1933099" swAng="-3257988"/>
                <a:lnTo>
                  <a:pt x="10150" y="234"/>
                </a:lnTo>
                <a:arcTo wR="8850" hR="21600" stAng="-5608913" swAng="-5191087"/>
                <a:close/>
              </a:path>
              <a:path fill="darkenLess" w="21600" h="21600">
                <a:moveTo>
                  <a:pt x="0" y="21600"/>
                </a:moveTo>
                <a:arcTo wR="8850" hR="21600" stAng="10800000" swAng="5400000"/>
                <a:lnTo>
                  <a:pt x="8850" y="0"/>
                </a:lnTo>
                <a:arcTo wR="8850" hR="21600" stAng="-5400000" swAng="208913"/>
                <a:lnTo>
                  <a:pt x="10150" y="234"/>
                </a:lnTo>
                <a:arcTo wR="8850" hR="21600" stAng="-5608913" swAng="-5191087"/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Infinite Campus Codes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0" name="Picture 4" descr="Picture 1.png"/>
          <p:cNvPicPr/>
          <p:nvPr/>
        </p:nvPicPr>
        <p:blipFill>
          <a:blip r:embed="rId1"/>
          <a:stretch/>
        </p:blipFill>
        <p:spPr>
          <a:xfrm>
            <a:off x="3124080" y="1600200"/>
            <a:ext cx="2759040" cy="4921200"/>
          </a:xfrm>
          <a:prstGeom prst="rect">
            <a:avLst/>
          </a:prstGeom>
          <a:ln w="9360">
            <a:solidFill>
              <a:srgbClr val="000090"/>
            </a:solidFill>
            <a:miter/>
          </a:ln>
        </p:spPr>
      </p:pic>
      <p:sp>
        <p:nvSpPr>
          <p:cNvPr id="91" name="TextBox 5"/>
          <p:cNvSpPr/>
          <p:nvPr/>
        </p:nvSpPr>
        <p:spPr>
          <a:xfrm>
            <a:off x="380880" y="2819520"/>
            <a:ext cx="2286000" cy="1465560"/>
          </a:xfrm>
          <a:prstGeom prst="rect">
            <a:avLst/>
          </a:prstGeom>
          <a:noFill/>
          <a:ln w="9360">
            <a:solidFill>
              <a:srgbClr val="000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Assignment is Missing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Not counting for or against grade, yet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cxnSp>
        <p:nvCxnSpPr>
          <p:cNvPr id="92" name="Straight Arrow Connector 7"/>
          <p:cNvCxnSpPr/>
          <p:nvPr/>
        </p:nvCxnSpPr>
        <p:spPr>
          <a:xfrm>
            <a:off x="2514240" y="3962160"/>
            <a:ext cx="1143720" cy="610200"/>
          </a:xfrm>
          <a:prstGeom prst="straightConnector1">
            <a:avLst/>
          </a:prstGeom>
          <a:ln w="25560">
            <a:solidFill>
              <a:srgbClr val="fc0000"/>
            </a:solidFill>
            <a:miter/>
            <a:tailEnd len="med" type="arrow" w="med"/>
          </a:ln>
        </p:spPr>
      </p:cxnSp>
      <p:sp>
        <p:nvSpPr>
          <p:cNvPr id="93" name="TextBox 8"/>
          <p:cNvSpPr/>
          <p:nvPr/>
        </p:nvSpPr>
        <p:spPr>
          <a:xfrm>
            <a:off x="6324480" y="2819520"/>
            <a:ext cx="2286000" cy="1465560"/>
          </a:xfrm>
          <a:prstGeom prst="rect">
            <a:avLst/>
          </a:prstGeom>
          <a:noFill/>
          <a:ln w="9360">
            <a:solidFill>
              <a:srgbClr val="000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Assignment is Missing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Is counting against grade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cxnSp>
        <p:nvCxnSpPr>
          <p:cNvPr id="94" name="Straight Arrow Connector 10"/>
          <p:cNvCxnSpPr/>
          <p:nvPr/>
        </p:nvCxnSpPr>
        <p:spPr>
          <a:xfrm flipH="1" flipV="1">
            <a:off x="5790960" y="3580560"/>
            <a:ext cx="915120" cy="2520"/>
          </a:xfrm>
          <a:prstGeom prst="straightConnector1">
            <a:avLst/>
          </a:prstGeom>
          <a:ln w="25560">
            <a:solidFill>
              <a:srgbClr val="fc0000"/>
            </a:solidFill>
            <a:miter/>
            <a:tailEnd len="med" type="arrow" w="med"/>
          </a:ln>
        </p:spPr>
      </p:cxnSp>
      <p:sp>
        <p:nvSpPr>
          <p:cNvPr id="95" name="TextBox 11"/>
          <p:cNvSpPr/>
          <p:nvPr/>
        </p:nvSpPr>
        <p:spPr>
          <a:xfrm>
            <a:off x="380880" y="4572000"/>
            <a:ext cx="2286000" cy="1465560"/>
          </a:xfrm>
          <a:prstGeom prst="rect">
            <a:avLst/>
          </a:prstGeom>
          <a:noFill/>
          <a:ln w="9360">
            <a:solidFill>
              <a:srgbClr val="000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Exempt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tudent is not required to do this assignment. 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TextBox 12"/>
          <p:cNvSpPr/>
          <p:nvPr/>
        </p:nvSpPr>
        <p:spPr>
          <a:xfrm>
            <a:off x="6324480" y="4572000"/>
            <a:ext cx="2286000" cy="1465560"/>
          </a:xfrm>
          <a:prstGeom prst="rect">
            <a:avLst/>
          </a:prstGeom>
          <a:noFill/>
          <a:ln w="9360">
            <a:solidFill>
              <a:srgbClr val="000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Rewrit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tudent is to rewrite the assignment and resubmit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cxnSp>
        <p:nvCxnSpPr>
          <p:cNvPr id="97" name="Straight Arrow Connector 14"/>
          <p:cNvCxnSpPr/>
          <p:nvPr/>
        </p:nvCxnSpPr>
        <p:spPr>
          <a:xfrm flipH="1">
            <a:off x="5181120" y="5029200"/>
            <a:ext cx="1372320" cy="457920"/>
          </a:xfrm>
          <a:prstGeom prst="straightConnector1">
            <a:avLst/>
          </a:prstGeom>
          <a:ln w="25560">
            <a:solidFill>
              <a:srgbClr val="fc0000"/>
            </a:solidFill>
            <a:miter/>
            <a:tailEnd len="med" type="arrow" w="med"/>
          </a:ln>
        </p:spPr>
      </p:cxnSp>
      <p:cxnSp>
        <p:nvCxnSpPr>
          <p:cNvPr id="98" name="Straight Arrow Connector 16"/>
          <p:cNvCxnSpPr/>
          <p:nvPr/>
        </p:nvCxnSpPr>
        <p:spPr>
          <a:xfrm>
            <a:off x="2437920" y="5257800"/>
            <a:ext cx="839160" cy="2160"/>
          </a:xfrm>
          <a:prstGeom prst="straightConnector1">
            <a:avLst/>
          </a:prstGeom>
          <a:ln w="25560">
            <a:solidFill>
              <a:srgbClr val="fc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9T16:38:53Z</dcterms:created>
  <dc:creator>Charles Vávra</dc:creator>
  <dc:description/>
  <dc:language>en-US</dc:language>
  <cp:lastModifiedBy>.</cp:lastModifiedBy>
  <cp:lastPrinted>1904-01-01T00:00:00Z</cp:lastPrinted>
  <dcterms:modified xsi:type="dcterms:W3CDTF">2011-08-17T16:16:31Z</dcterms:modified>
  <cp:revision>70</cp:revision>
  <dc:subject/>
  <dc:title>American Studies</dc:title>
</cp:coreProperties>
</file>